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28E4-7F4F-4514-B964-ED559C4D8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7298-7F4B-4FA8-9CF5-F0A55D58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C979-0EC4-4C4F-9265-E770BFC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D21F-31E1-4F70-93E8-F39377F4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DB07-5362-4DB0-BE07-AEFEC69D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C7AB-01AA-445F-9F43-5B3BD098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C1E0-8B79-4411-B1FA-BDB43543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86F5-D319-4435-9DCB-6BF958DB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AA3B-5F3D-43CF-96BA-F5B0C7C2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085D-3526-463E-8597-6F90B865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0298-A2BF-45B4-8374-F73B7DF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6EDD-5ECF-46B5-B752-7B6D3A5C8C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 Programmeerimine 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10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loeng 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A0277059-159F-4194-9996-5DB728426228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078-DE84-47F8-8D4B-8222BB9D985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lanation of how we get time N*log(N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4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mergetime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22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out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A.length &gt; 1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plit the array into two piec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s close to the same size as possi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first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0, A.length/2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last 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A.length/2, A.length);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ort each of the two halves recursiv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fir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la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merge the two sorted halves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first, la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4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splitting function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extract: returns a subarray of 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tarting with index start in 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continuing to (but not including) index la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int[]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start, int last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ret = new int[last - start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int i = 0; i &lt; ret.length; i++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[i] = A[start + 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 re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3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merging function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merge: merges arrays a and b, placing the result in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rray dest. This only works if both a and b are already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increasing ord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dest, int[] a, int[] b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(i &lt; a.length &amp;&amp; j &lt; b.length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(a[i] &lt; b[j]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dest[i + j] = a[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dest[i + j] = b[j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++j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; i &lt; a.length; i++) dest[i + j] = a[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; j &lt; b.length; j++) dest[i + j] = b[j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normally fast, N*log(N) in average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omplexity: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N*log(N) in average case, but N*N in worst case. However, in practice typically a bit faster than always N*log(N) algorith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ice property: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oes not need extra memory for temporary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is a bit similar to mergesor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plit an array into two parts (not necessarily equal size) so that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all elements in first part are smaller than all elements of the second par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 order to do that, pick a probably-average-size element (pivot)  to split an array into smaller-element and larger-element sub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all quicksort recursively on both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inally everything is sort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B!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Quicksort performs badly if we have no luck when choosing pivot. In worst case, one half of array contains just one eleme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63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out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lo, int hi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&lt;= lo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he list has length one or zero.  Nothing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o be done, so just return from the subrout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pply quicksortStep and get the pivot pos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hen apply quicksort to sort the items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precede the pivot and the items that follow 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pivotPosition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Step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lo, hi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(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, lo, pivotPosition - 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pivotPosition + 1, hi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6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 inn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Step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lo, int hi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pivot = A[lo];  // Get the pivot value.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) {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 &amp;&amp; A[hi] &gt; pivot) hi--;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== lo) break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lo] = A[h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++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 &amp;&amp; A[lo] &lt; pivot) lo++;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== lo) break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hi] = A[lo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hi--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// end while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lo] = pivo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 lo;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 // end QuicksortSt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3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rting: some comparis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e will have a look at the sorting applets running in parallel and Eck sorting lab timing 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600cc"/>
                </a:solidFill>
                <a:uFillTx/>
                <a:latin typeface="Courier New"/>
              </a:rPr>
              <a:t>http://math.hws.edu/TMCM/java/xSortLab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600cc"/>
                </a:solidFill>
                <a:uFillTx/>
                <a:latin typeface="Courier New"/>
              </a:rPr>
              <a:t>http://www.cs.ubc.ca/spider/harrison/Java/sorting-demo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8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lmanda praktikumi etteprogrameerimise jät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arne ot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eeri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eglased sorteerimisalgoritmid: keerukus N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rge sort: keerukus N*log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Quicksort: hea keskmine keerukus, halb halvim ju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rdlusi ja näit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Kolmanda praxi etteprogrammeerimise jät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top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naarne otsin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vl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aive, simple sorting algorithms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*N trie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(quadratic time) in worst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ples: bubble sort, insertion sort, selection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ptimal algorithms (several meanings of “optimal”)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*log(N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ries in worst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ples: merge sort, heap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ssibly infinite number of different sorting algorithms can be devi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or example, “Quicksort” is bad on worst case, but very good on average ca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 (slow): partial algorithm at fir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void insert(int[] A, int itemsInArray, int newItem) {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loc = itemsInArray - 1;  // Start at the end of the array.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* Move items bigger than newItem up one spac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op when a smaller item is encountered or when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beginning of the array (loc == 0) is reached. */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while (loc &gt;= 0 &amp;&amp; A[loc] &gt; newItem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A[loc];  // Bump item from A[loc] up to loc+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loc = loc - 1;        // Go on to next location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newItem;  // Put newItem in last vacated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: full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shift each next element to a right place in a sorted part of arr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void insertionSort(int[] A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itemsSorted; // Number of items that have been sorted so f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for (itemsSorted = 1; itemsSorted &lt; A.length; itemsSorted++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temp = A[itemsSorted];  // The item to be inser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loc = itemsSorted - 1;  // Start at end of list.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while (loc &gt;= 0 &amp;&amp; A[loc] &gt; temp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A[loc]; // Bump item from A[loc] up to loc+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loc = loc - 1;       // Go on to next location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temp; // Put temp in last vacated spa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1" name="fig4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13480" cy="529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fast, N*log(N) in worst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&lt;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n the array is already sorted. Stop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wise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&gt;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we perform the following three steps in seque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 the left half of the the arr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 the right half of the the arr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ge the now-sorted left and right hal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irst phase, recursively split an array into small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cond phase: merge sorted parts, preserving right or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hy it works fast: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rging two sorted arrays into one is simple and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omplexity (speed):  X*X   &gt;   2 * ((X/2)*(X/2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5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7620120" y="3124080"/>
            <a:ext cx="304560" cy="30492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05920" y="3505320"/>
            <a:ext cx="30456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3505320"/>
            <a:ext cx="30492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31240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391160" y="3505320"/>
            <a:ext cx="22860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076960" y="3581280"/>
            <a:ext cx="228600" cy="30492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44956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95720" y="4495680"/>
            <a:ext cx="22860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4495680"/>
            <a:ext cx="38088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458200" y="4495680"/>
            <a:ext cx="763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8152920" y="4952880"/>
            <a:ext cx="22860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49528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0-31T07:18:44Z</dcterms:modified>
  <cp:revision>16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